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8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91E-0DD9-43CC-ABB9-AD845D7D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3AF-DF53-4BD3-B0AC-E940CAD4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A22-EA8B-4717-81DB-533D5A7D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D32-077B-4B81-BFB8-8D43ECAB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61D-F510-401C-85F4-1023C662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030-5FAA-44D6-81BA-E9F4555C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2E5-E894-4164-B125-420B47E5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927-F619-4A40-BD32-A2280A1C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5CE-403C-43F8-B2B0-F6D4B10C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9AE-5C94-4583-88A3-68056269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B1A-D6D2-4761-B05E-318114FC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09B-30EB-4BE1-A32E-720F61C3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BB44-A015-4DB1-9224-49C185AB8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00ff"/>
                </a:solidFill>
                <a:latin typeface="Handwriting - Dakota"/>
              </a:rPr>
              <a:t>How to Measure Triangles and Poly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Handwriting - Dakota"/>
              </a:rPr>
              <a:t>By: Justin C. and Zachary 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82640" y="13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86600" y="4419720"/>
            <a:ext cx="1401840" cy="1825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077320" y="2209680"/>
            <a:ext cx="7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Handwriting - Dakota"/>
              </a:rPr>
              <a:t>What is a Polygon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lygon is a closed plane figure formed by three or more segments. A polygon is named by the number of its s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352680"/>
            <a:ext cx="5257800" cy="22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Handwriting - Dakota"/>
              </a:rPr>
              <a:t>Types of Poly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olygon has a different number of sides. The prefix of the name of each polygon represents the number of side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: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t: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: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: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: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: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x: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: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449568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Handwriting - Dakota"/>
              </a:rPr>
              <a:t>How to measure polygons and tri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figure you have into triangles. You multiply however many triangles you have by 18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2514600" cy="2085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182880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Handwriting - Dakota"/>
              </a:rPr>
              <a:t>Example of formula for solving sums of angl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(triangles)x180= 7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1600200" y="2971440"/>
            <a:ext cx="3049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00200" y="320040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52480" y="396216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4232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28987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Handwriting - Dakota"/>
              </a:rPr>
              <a:t>How To Solve the measure of each angle in a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 the measure of each an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hape you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count the 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les in a sha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s 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3124440" cy="2182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981080" y="294336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971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048120" y="2971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890000" y="3933720"/>
            <a:ext cx="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93372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Handwriting - Dakota"/>
              </a:rPr>
              <a:t>How To Solve the measure of each angle in a shape…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95440" y="24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you minus the number of angles by two times 180. If you are calculating a square you would end up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=180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Handwriting - Dakota"/>
              </a:rPr>
              <a:t>How To Solve the measure of each angle in a shape…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ly you simply divide the formula by the number of angles to find 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= 180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nell Roundhand Bold"/>
                <a:ea typeface="ヒラギノ角ゴ Pro W3"/>
              </a:rPr>
              <a:t>Thanks for Watching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n, and I hope that you were enlightened by this slideshow we have worked on togeth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sson is quite easy, especially if you approach it with a positive attitude. So good luck with all you do and have a nice life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ch and Ju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in J. Gottlieb  Day School</cp:lastModifiedBy>
  <dcterms:modified xsi:type="dcterms:W3CDTF">2010-01-19T17:09:26Z</dcterms:modified>
  <cp:revision>2</cp:revision>
  <dc:subject/>
  <dc:title>How to Measure Triangles and Polygons</dc:title>
</cp:coreProperties>
</file>